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07E-C86A-4A07-964F-0C6E9FE9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F42-0BC2-4E2F-9D41-5393F389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DF8-5805-40C6-8996-49EFA52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369B-0EFD-43D7-A0A3-3935037D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6BD-906E-4106-9F48-5CA6D2C7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20F-0AAD-4EF2-BABE-A6D8689D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08D-B259-4AAD-BF97-2A105751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D333-A902-4DD0-BE5B-CC89BB7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BAF-DF79-48BE-B23B-F5CE28CC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A950-2804-41B8-9206-FE143317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492-019E-4E18-92B5-1DDE806F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AE55-95A2-4532-A143-08CEDDA2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0A28-2F9C-4E85-849F-B948643E99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7328-47CC-4107-A6EC-D6CEC59291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R fitting(dppcxr.par) and density prof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334120" cy="4015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38640" y="2209680"/>
            <a:ext cx="400536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EB2-C8D8-452B-B22F-C01FF1A5A3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AA7B1-9A09-4A56-9D5B-FDC5CEA422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ith penetration decay(blue)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nd without(r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519200"/>
            <a:ext cx="6705720" cy="533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5C5-3D75-44F6-9DF3-FCDCA19F3B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19395-E0EB-4ECA-94F0-894145B2C2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xos calculated from XR fitting parameters (Dppcgixos1.pa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124440" cy="2335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5924520" cy="446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445-9EF6-4FBA-9EDA-A597D6D4767F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A0384-5338-4B68-93D9-71A21E13A1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331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.rrf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ight panel shows the ‘measured’ structure factor (generated from 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4495680" cy="3444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5960" y="57913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chang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F38-4544-45DA-B1DE-76B18CA1A66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CCB8B-A08E-4E0F-99CB-766CB1C0D4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ried to fit the gixos data directly, slow and not goo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7BB-F97D-4C1B-973A-874D55A64E71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CDF40-49CD-4984-B263-AA79EB2B8C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ts correction needed to fit GIX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mall alpha condition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v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 S1v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(1pixel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sv(2pix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650960"/>
            <a:ext cx="6781680" cy="52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1A5-8F90-482E-8E44-4EC1C9241CF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B1AFE-DB4F-4D49-847A-850C372366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ater gixos fitting using corrected resolution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2065320"/>
            <a:ext cx="6019560" cy="4792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2743200"/>
            <a:ext cx="990720" cy="1447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3124080"/>
            <a:ext cx="685800" cy="7621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>
              <a:alpha val="57000"/>
            </a:srgbClr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3048120"/>
            <a:ext cx="1371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not reach the maximu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393-1AE7-437A-A2DB-3889B0EDCD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2CEA3-13EC-4D16-BC6B-F16558AB7B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419720" cy="3346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91120" y="2416320"/>
            <a:ext cx="4952880" cy="378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correction check for other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mall alph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v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S1v,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76100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rrection, the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n fit the beta scan and K-scan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? Effective footpr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160" y="415116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K-scan #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3840" y="62625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eta scan #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FC1-22B4-4DC9-BB0C-EB207C8D790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6B0AB-93B9-41E9-8B90-07ED8FE01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334120" cy="40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68680" y="50655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PC beta scan #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257-EB3C-4D74-A822-E7B21C47302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26BB4-0645-4BBE-9ED2-625DCC5F88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876920" cy="3741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080" y="2209680"/>
            <a:ext cx="5562720" cy="4429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1055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et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a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710-FD81-4DF1-8EBA-C2D1B6880AA4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1479D-CCBD-4AF8-A08E-EB164E25A5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7T19:19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